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E25-A35B-4E59-A49D-D50CB135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BA1-B8CB-4F0D-B414-58E66878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3DADB-8E47-4EB1-B727-0FE2E302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6D3DA-84FE-402E-912A-51007DA9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300FA-A7C9-4723-8917-E21CE54E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ECFC6-2767-4549-BFA5-2353C246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D11A5-6946-4336-8BE9-7838556C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6DDC7-2D22-45C4-9201-8C68BF36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40F02-9A33-4512-8C80-C2F6D357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FB884-A0CF-47E1-9C75-CC943071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531AD-232B-4BAB-BF67-7716CCC4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7A958-84F1-4134-88F5-FD18A688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0F9-3F41-4F93-A542-DE4880CF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49EAC-0404-4E94-BBC3-0FF857ED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4655D-651F-4F75-90F2-3E8B0605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DD5FD-ABF3-4B4D-BF0F-E1F3F199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3D6EA-174C-4BB3-9331-0CDD67BB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1AB28-8EF7-4B30-8C72-14E2F5A0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2E6A5-2669-4F6E-B737-4B4D33AB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547A5-EE68-404B-A71C-FD71D6CF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A6B91-0992-40B8-B51C-E8C4C06A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DB91E-06B5-44C0-8FBA-295CA766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02A08-4C07-4FA4-8DD7-AC57D20F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259E-5551-4C78-8B3B-5FB35683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B8137-35E0-4D8F-A163-51C3587B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1D391-245E-4D92-AE14-17E463A3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2363A-D30F-4182-87E2-7E6E9486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4F1FA-4053-4B95-B22F-E47771E4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5C150-D3E4-4E52-9E28-FB3EA4F9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E8A25-DFB4-4F8A-98AE-970F6E2D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FDCA9-E557-4358-9EB0-5845E1BE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1854D-DFE8-4EDA-963A-9366929C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FE01B-AE7B-43D7-8341-CCE50EFF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B0036-EE14-40F0-B358-53B726A5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FD3D-6BA4-46B2-A31D-E63CB822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71708-E745-49FB-B45A-9148A5A3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F27AA-786C-4431-BDAE-4D51009E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65005-58EB-4932-8C40-71EF93FF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43E6E-C098-4EFB-89AC-03856BC0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9B3FF-6C44-40F5-BEEC-DC4A61B8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8D5DF-D700-46EB-A442-25FDA52C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1FD2C-941B-4C2B-9E3A-54341E36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C71FE-7B94-46F1-85C1-5394E322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ACE48-0A2B-48C0-B3A8-C23DE452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F6948-9DD3-4465-BD81-AB15B953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8EBD-B013-4F96-909C-F07669AA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638C1-435E-4612-94EC-C0325C5A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6008D-2ECB-4089-90F9-C108FC61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3B8C0-4E3D-41AD-993A-90752A18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9F3B4-AF88-4191-AC61-2B1ED27C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EFCED-9BA3-4698-94E8-A15B7579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10EAF-25D4-4367-93E0-E192F349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00404-3CF1-4893-8984-5DE2438C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9A93AB-FD46-4083-823B-8642A31E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1BC96-AB4D-4F5E-ACA2-133FB482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3D579-1A8F-4743-8C1B-D1B89D82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839E-C0B9-489F-8913-99EB2055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574AD-99F2-4FF8-A75C-45185F95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42CE0-1D17-44F7-BD34-7A520074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83B36-120E-43D4-8AE6-EC17FA06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BBBE9-C239-4199-9395-CCD37A55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361B5-2A1B-4703-AB92-7EB991A8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ED5B37-20BA-4599-8544-52E9E373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79C43-7CA0-4829-994A-8CCFA927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770178-4CD0-4331-9C3A-DA275398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6E2225-9282-459E-8DDC-2D743B41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E9DAB-467D-430D-A3F1-8C557D3D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5C89-2615-4794-A810-5AD5FA33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FD57DA-3448-4306-A568-B2D46993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038E7-A0A0-45A0-8179-9684665C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4F502-74E2-4D5F-91AC-44F47CFD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7D6FFD-833D-46B0-B30D-3F53C288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EA880-60D9-488B-B262-EFED2299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CC6352-E6A1-4BC8-BD12-88C2C744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9ACFFB-DF62-461F-BC3D-F117DC20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DAE42E-0ED3-4B23-9F08-16069EB6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CA051-6E07-4600-B594-215D10DB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08E030-D7D2-40B9-9579-10FD45A9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0437-FCB8-4F38-BEFD-0CAF4164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F0B0A0-8BF3-4944-AA1D-E816D726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524D3F-B879-4A86-A170-7026C5A5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05E54A-EC3C-4EF8-BA9D-62AEE1E9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89995C-D61A-4D98-BC83-C4945AC2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739408-B608-436F-ADE8-56634D65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4ABAA5-A38E-4F47-9DDC-65C004E8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8F239A-6A6D-487E-B7AD-3335906C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FF8FEA-D6EE-45B2-A743-582065C0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A05BB4-1BFE-4033-9811-BEBE4073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2D15E9-A409-46B2-B1C1-18C8612F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310F-3582-48C0-8321-6974F7D5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80D144-0061-40C3-BE7D-15316C56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060CF0-21A3-400A-849B-45D366A3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D9159B-F25D-44BE-8B6C-D411AB18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224ADE-994A-45B0-A192-433653DF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74E611-142C-4EDB-AD2D-533B13CE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10520B-1527-47B3-B4B3-E6F781B4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253385-9B6B-44D4-ADB9-E9C4D479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CE5320-C1A8-43A1-A73A-BCE58E32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A41A82-8264-48B4-8AA1-037F9434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228DCA-79F2-468B-9CE4-1FCD40AB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DFBC-C499-4D41-A17F-AED20DB7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6172FB-1DA7-4DC8-A117-C9F61717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279A42-530A-43C3-B7C6-4BAE24B9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06420F-9016-4346-A9C8-A1DBC4E8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293BB0-FD84-48F9-9FED-5A41B078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7A04DA-06AC-4329-8C49-B0262D7E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E9398-2745-4A82-BC7F-5F820EAD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7D92D9-7436-446E-AB61-F4FAD4A3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D4A288-3B7D-4706-9FED-18AB10DA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38C50D-25FD-491D-8676-0AAA8055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F16804-2235-42A9-A09D-BDFBCB6F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1815-1A7C-4AE9-A5ED-3F9A934A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7E62-661B-42FE-9746-D05ED788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FC2383-BCD7-4394-A639-5712079B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32BEC9-6D0F-44F4-99DC-1FE712B3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D61586-2AF7-4BA2-98D0-3EEA1A36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57AB96-E692-45CB-9DDC-DD78B872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DA2BE4-DA75-4D8E-B9AA-237F3B16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6923A-458B-4081-A8CB-0651A0C3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2121DD-BC1D-453C-B3C9-25F28493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6DFE55-47AF-4B7A-AEA9-BBCD2C3D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C8A169-11D1-495E-A86C-CC74165A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F2607D-0454-448A-B8CF-E4EE77FA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7BF4-2B3B-4128-9942-4C7560CA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519BF0-2A54-4D19-8E97-88FA18D8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0ADE8-EA72-459A-8906-528E892A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39CCE9-25BF-4F42-8984-A72D779F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597060-2C9D-4424-AE38-322903FD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28736A-9FCC-424F-AF48-C4D7914B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A5240E-2FD2-48A2-8177-8AF58EB1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D35175-3307-40C5-8C8F-CF2F2A47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DB4DEF-A18C-4700-A397-C0FF4D10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910405-CE73-4814-AEB2-4DF52E4A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B8E73E-CBA2-4152-96A4-537F9C32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C6C6-1FCE-4134-8E95-9962444C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88090C-7520-4BE9-92AE-7A0F4718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56B519-2F06-4A5D-953B-FEA22902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90B594-9AA0-417D-8924-3CDA5527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2AE1EE-7E7A-4C5F-A3F3-B8E00489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FFA4C0-3AB9-4983-8882-089E41F9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E0ACE4-E040-4027-8DD4-7896DA51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D9E10E-EDB4-45D7-BC74-A0D450E4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DB6030-B887-4916-9860-2626FB7D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BCF285-EF24-4757-87E5-6B638B13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A957E4-783C-4B62-A1B7-7A069F6E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E355-FADC-4E0C-BB3B-DC926B7F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A5B403-AB34-4471-82F9-77A02F59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26C914-58DC-4A14-85EF-21D9D8D8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E3BE46-8C37-4A83-A827-E4434F4F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333BD6-F246-403A-876F-096D5552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69CA4D-7D8E-45E7-AB6D-4067F56F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E822FF-0983-458F-8513-188D8E41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A79E08-8445-4B61-A4D6-3F54D04C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E89921-3D56-4CE0-8602-818EC677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7ED0F8-2634-464B-8D6A-16E16009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4C7145-D0B4-47F0-8B0E-0FB0F455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F796-C142-4176-BADB-9F46E7AA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93D117-94DD-4E61-8782-46E886E2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FAADFC-778A-4059-8AC8-4F6881D8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9A6D26-AC28-467D-9987-57DE19F9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3F5596-1698-436D-BE52-82567A0B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E8AFDB-FA20-4F90-9B6F-5B45EE64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99DD13-2641-4A02-8D80-19C13F3E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747140-418C-4CD5-AA15-55E5FA2D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0A3B72-C6BD-4906-8695-701E7C17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18A94C-B9EA-4FB9-9FBC-616C8AF0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6F39D8-DCD2-4FA8-B3B5-837F6C6B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31E0C-9B4A-456C-B68B-8249382B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EA5F15-0D0A-49C5-B1BB-95D1247F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860C04-EB87-4BB6-9C63-880AF31C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E4E3FA-E3FA-4E01-A8A1-265251FA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9B060-A5BE-40FC-ADA6-09D17BA4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9E066-9841-4556-BB02-11BFC203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53B11-1061-4D35-A317-D3EAEA2C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5271C-A69C-4E07-80E8-DCAD674B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813-F620-4B34-B1B4-3A9C6911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892DD-33F0-4DCA-8391-840070F3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7DB54-9F5D-4C5E-BF96-EB1606E3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A1A51-8AF4-4320-A80D-E13B4CFD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004C-F636-4EF4-8CB8-960A873E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5A91A-4528-4B4C-8EB2-89FE877F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2618B-1A06-4FEC-AD0C-5B8E7735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2B5D-C475-4F60-951E-B531CFC8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2B67B-606C-45D7-B17E-5F2A7C2C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9F61D-FCE1-44F9-AD0B-25CFEC4E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83D47-C213-45E4-AE3F-0F7D908A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5866-356D-40C5-885F-253F7B4C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62F5E-E28F-4185-9E6F-007A7A5D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4719D-4025-4B82-881F-DA5C8CF9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58E81-B5D2-444D-BCFB-B2E4EA5F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1A646-98C2-4463-BF64-1476509B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C7A2C-6A07-485E-9205-FD9212C3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D08F9-F7C6-412A-9C21-C5FFB8DA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664A6-82E1-4024-AB1E-90200E6E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863DB-82B4-4E72-A130-9099D9A9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87E74-1957-4DCF-9B62-8FBC3590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F5B50-8F28-4E10-B4E4-EC8DA0CA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029-771D-4337-9AE8-4BDC7CD6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5F397-2D52-4272-BB41-3EF4BC39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92612-C81D-4E3E-BBDC-EE58ACBF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02F93-7681-4DBF-9026-E792AA16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62051-F50C-4FA9-B0C2-D10FD8B2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EA94D-ECBA-4BD2-8973-4F70D489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145F0-4FFC-42ED-BF13-BEF0C33E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7916B-6D71-4B8B-BD4B-31583388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A1255-F36B-48EE-BDF5-9E6FDD80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DB30E-E420-4862-869B-AC12BF10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56C09-2266-4C13-9F8E-991902A9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D73-0D01-4878-8913-BCE7B5E2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FD0F4-2F3F-44B0-B3AC-4B55B1F8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8ECAB-3749-4AED-8037-7528A108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0C51E-35ED-4E32-B1F6-C095E265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DF098-F90F-4F9A-956F-2CCBFC8E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178F0-BF8E-4121-A93B-54451717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941C6-48C5-445C-93CD-1C869DE0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89E2B-5069-4710-A76B-E0F5AA0D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BE641-D3E0-402B-8CDA-2FC046DE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E3916-9B08-44AF-983F-7922FD82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792A3-89BD-4AAE-8D53-75E0A628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BFE-FF14-406F-B8BE-A7D730FF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B9A12-1E48-4797-BF82-B2E298BC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DA449-7F36-4D51-85DC-DE10F95F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5CA40-6F77-4C70-AA18-1FFD7A0F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CB13E-8C0B-4360-B1C2-F97E10BE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1030D-8FEC-46E6-AA1A-B730F41B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63EF3-0438-402E-B6BA-4BEAB99B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05C70-8E86-48A1-BD08-41B7EC86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14DF1-285A-4D69-8CFC-DFBEDD1F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CD8DD-1AF6-4B72-B130-7D6BBD86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B3A3A-6C49-4D92-B292-85D4C877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087D-181B-42CA-B350-BCCDFA08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01FB5-B426-49C8-802F-AE41C221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83295-F819-4BBF-9878-203B30FE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F9638-BBE9-4413-8BA8-FBD0D649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F0BD2-377D-4C6B-9CC6-7C02F369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54B02-94C3-40A4-87F5-99F3A16C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A26B8-0824-403B-814D-7B47A3ED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E03A4-F6BC-4FC8-830D-00870C32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D295D-B6CC-435D-A113-9C455779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D38D5-2349-4123-807A-A2A097E4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9B497-2B16-44F8-81B4-45133778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704-AEEC-4D7D-B68B-C0C565C7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E7A0C-083A-4DF1-AE97-E8302C25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550C8-4FE7-4503-BE9A-4A70B5A2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D530C-9C7F-497B-8F7E-E7FD20B0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6E421-0300-4C1A-A6F4-9F1FB548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4C087-2544-4368-8CF4-EC874EDF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7416D-515F-486D-8D85-440AF46D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D96B5-5C01-4A78-A937-777FC789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673EE-B94C-485F-AE31-86346552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DE268-BD24-44C6-BD18-7929D9AE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777CC-0AD8-49C3-AC7D-95E4A255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4A64-4F0C-4FFA-9815-2E16801D60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5C7C-274F-45DB-B750-78A6BC2806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C470-A9A1-4AEC-91F0-85A107BE3F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A3C0-0462-439F-9B21-366E1A82F5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5555-F7EE-49FB-A6E0-7C2070E545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AA2E-9088-4401-BD27-9B2643A813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DBE7-03B4-4EC1-A67C-B2D43E9FE5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9FCC-F1F1-419C-A66C-341A407DA5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BA27-B2A7-48B5-B11F-5599F3E157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C951-0F4A-4043-841C-228E6F0900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E23D-C5C4-4041-BC12-D11F71330F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78D3-0C0B-4FF7-AFF6-792921F4DF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60A7-8DE4-496D-83E4-B991728103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E0BD-B0F7-4522-88C7-A350B4ACE5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A78A-168D-4C1D-B725-68D7965386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6871-9D2D-4778-9BCC-CAF3FAECFF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E402-6F9C-4D1F-AB28-8325C334F1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1C7E-1554-400F-A808-638D279FC7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AA44-80C1-4850-BA93-3E9E1FF3E2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6C9D-484A-4D7A-B3EB-A40542A37D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13F2-BC6E-4B75-9871-7F30550F8E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3051-AF34-4399-BFD4-EE4C8CC543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281B-5243-41A7-AD25-36306F4567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D873-1A14-4C90-BC83-8F62047EBB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FC80-FB66-4D81-A579-2D3E11F5C2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109C-F9A7-4B80-9346-E7EDAECD6C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0779-CCC6-47D8-9E6F-C777B8105E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EAB0-E93C-44C0-96D3-0E47F40DA5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DAE5-3CBB-4B1C-91D3-715CD6CD26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F245-0143-41A7-84EB-9381931F08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A831-D9C2-4D97-91DA-842756E24E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9EFE-AB2C-4DFD-B81E-CC553CB1FB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E785-58B8-438E-9575-7541EAC010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EC19-EA92-4AAF-80E2-4830DF62EA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6CE6-F4C6-4514-AEFA-B8F226D48D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9A88-5A86-441B-A403-94F7F11A6B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6DCA-D2F5-4D2C-9BCD-CFBB2E96EB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4CB4-ED61-4319-94F8-EA514E23A1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51C8-B0EA-4984-849B-2DDDC6153F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7997-27C6-45F4-9E02-8A0C94ECDD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90920" y="3143160"/>
            <a:ext cx="39621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52280" y="1262160"/>
            <a:ext cx="8839440" cy="43336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68360" y="4941720"/>
            <a:ext cx="3959280" cy="30168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60430" descr=""/>
          <p:cNvPicPr/>
          <p:nvPr/>
        </p:nvPicPr>
        <p:blipFill>
          <a:blip r:embed="rId3"/>
          <a:stretch/>
        </p:blipFill>
        <p:spPr>
          <a:xfrm>
            <a:off x="833400" y="2305080"/>
            <a:ext cx="7763040" cy="193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95280" y="5257800"/>
            <a:ext cx="395928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119160" y="2157480"/>
            <a:ext cx="8905680" cy="2543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468360" y="3471840"/>
            <a:ext cx="3166920" cy="3016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3166920" cy="3016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395280" y="4105440"/>
            <a:ext cx="3166920" cy="301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316692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133200" y="976320"/>
            <a:ext cx="8877600" cy="49053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2087640" cy="3016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2916360" y="1979640"/>
            <a:ext cx="2087280" cy="3016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755640" y="2330280"/>
            <a:ext cx="2087640" cy="3016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2843280" y="2314440"/>
            <a:ext cx="2087640" cy="3016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755640" y="2627280"/>
            <a:ext cx="2087640" cy="3016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7"/>
          <a:stretch/>
        </p:blipFill>
        <p:spPr>
          <a:xfrm>
            <a:off x="2916360" y="2627280"/>
            <a:ext cx="2087280" cy="3016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8"/>
          <a:stretch/>
        </p:blipFill>
        <p:spPr>
          <a:xfrm>
            <a:off x="826920" y="2933640"/>
            <a:ext cx="5977080" cy="3016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9"/>
          <a:stretch/>
        </p:blipFill>
        <p:spPr>
          <a:xfrm>
            <a:off x="684360" y="3529080"/>
            <a:ext cx="2087280" cy="3016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0"/>
          <a:stretch/>
        </p:blipFill>
        <p:spPr>
          <a:xfrm>
            <a:off x="2916360" y="3548160"/>
            <a:ext cx="2087280" cy="3016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1"/>
          <a:stretch/>
        </p:blipFill>
        <p:spPr>
          <a:xfrm>
            <a:off x="684360" y="3879720"/>
            <a:ext cx="3887640" cy="3016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2"/>
          <a:stretch/>
        </p:blipFill>
        <p:spPr>
          <a:xfrm>
            <a:off x="3348000" y="487836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3"/>
          <a:stretch/>
        </p:blipFill>
        <p:spPr>
          <a:xfrm>
            <a:off x="6156360" y="4869000"/>
            <a:ext cx="431640" cy="3013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4"/>
          <a:stretch/>
        </p:blipFill>
        <p:spPr>
          <a:xfrm>
            <a:off x="3276720" y="5229360"/>
            <a:ext cx="431640" cy="3013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5"/>
          <a:stretch/>
        </p:blipFill>
        <p:spPr>
          <a:xfrm>
            <a:off x="6732720" y="5229360"/>
            <a:ext cx="503280" cy="3013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6"/>
          <a:stretch/>
        </p:blipFill>
        <p:spPr>
          <a:xfrm>
            <a:off x="3348000" y="5545080"/>
            <a:ext cx="43200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28:4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